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1CBC-80B9-427E-A520-1053AF03E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F076-DA6B-4C7A-A2FA-332E5F993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A135-1936-47BE-B22F-532B4D403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3997-D85F-49C7-ABAB-4AA983426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B984-ABEA-4540-8594-C8BC8F914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AE11-FF37-48EB-9C3C-C8FC337B8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9F4E-B047-4F8E-8997-5E7A1ECB7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C9A2-98D0-4FFA-ADAC-8800A2A7F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2001-7B75-44F6-AAEE-9788DB906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0D4F-081C-49D1-8570-9745395A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B127-EB1A-4962-BB9A-0717A922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F916-A26B-4072-A720-256CF5DB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F373B-D2AF-433E-B10C-331B568226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 rot="20359200">
            <a:off x="678600" y="2096280"/>
            <a:ext cx="7761240" cy="133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llege Planing Project Refle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 rot="20662800">
            <a:off x="1371600" y="38768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esse Motsenbock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No Frames Button Animated Clipart&#10;&#10;"/>
          <p:cNvPicPr/>
          <p:nvPr/>
        </p:nvPicPr>
        <p:blipFill>
          <a:blip r:embed="rId2"/>
          <a:stretch/>
        </p:blipFill>
        <p:spPr>
          <a:xfrm>
            <a:off x="609480" y="8380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thematic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Mathematics I had to learn how to use Excel and find out what it was. I figured out by stretching my brain and trying to figure it out. I learned that you can program cells. Example C5 * C6= C26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New Button Animated Clipart&#10;&#10;"/>
          <p:cNvPicPr/>
          <p:nvPr/>
        </p:nvPicPr>
        <p:blipFill>
          <a:blip r:embed="rId1"/>
          <a:stretch/>
        </p:blipFill>
        <p:spPr>
          <a:xfrm>
            <a:off x="1143000" y="22860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chnolog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Technology I learned what my whole family uses all the, Excel. This was a new thing and it was my first time ever using it. My learning of Excel went through the roof. I learned how to program cells and how to use Excel in genera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20:45:18Z</dcterms:created>
  <dc:creator>ITSUser</dc:creator>
  <dc:description/>
  <dc:language>en-US</dc:language>
  <cp:lastModifiedBy>ITSUser</cp:lastModifiedBy>
  <dcterms:modified xsi:type="dcterms:W3CDTF">2010-02-10T21:17:29Z</dcterms:modified>
  <cp:revision>8</cp:revision>
  <dc:subject/>
  <dc:title>College Planing Project Reflection</dc:title>
</cp:coreProperties>
</file>